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ABB29-C610-449A-9EDD-08931C37D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067C8-E7D4-44E7-B491-41E0D3819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B18A2-66B1-48D9-95CA-D1F4101CE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AACFA-1CB2-45E5-ABAC-973AC5F57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11902-084A-48FD-B555-65D7FE91C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AEC8B-F85E-4555-9133-180E5C049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89C09-4779-4D95-8933-75D40D367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21F1F-3DAA-4B52-811A-BE7986AFC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0F4B1-77CB-40F9-8677-7C248B9FD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69B20-7DAD-42BD-9A91-4853E397D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973F9-123F-4593-9EC2-1147AA264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3B681-F268-4EBD-8BF6-A01563333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D7113-7342-42EC-A8A7-A10C1141B49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676520" y="3276720"/>
            <a:ext cx="4876560" cy="127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行楷"/>
              </a:rPr>
              <a:t>短语集萃</a:t>
            </a:r>
            <a:endParaRPr b="1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</p:spTree>
  </p:cSld>
  <p:transition spd="slow">
    <p:pull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839240" y="1522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（一）情态动词专项训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52280" y="533520"/>
            <a:ext cx="862668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et’s go out for a walk,_______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shall we   B.  don’t you    C. will you     D. do yo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He _______ his parents about his failure in the exa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dares not tell          B. dares not to te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dare not tell            D. dare not tel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 --- would you like to have a cup of te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--- ___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Yes, I’ll like to           B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Yes, I’d like t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, I wouldn’t         D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, I don’t like th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.______ give him a message when you see him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o you please                 B. Would you lik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ould you mind            D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ill you pl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.You must have gone to see Bill yesterday, ______ you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mustn’t      B. needn’t     C. didn’t     D. haven’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177440" y="4716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434240" y="13622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433880" y="30384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900720" y="43340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149240" y="56293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215280" y="66600"/>
            <a:ext cx="868464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6.---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re you suggesting that I _____ too inexperience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r the job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-- No, I only suggest that you _____ more carefu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 be, should have been     B. am, should 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should be, be       D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ave been, should have be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.______ out of season, I would have ordered some fr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fruit stan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.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f oranges would have be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.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f oranges have not be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ad oranges not be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hould oranges not have be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.---- Why didn’t you help m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--- I would have _______ I didn’t have the mone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still       B but          C. otherwise               D. 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67440" y="-936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77040" y="21240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491280" y="51721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63800" y="254160"/>
            <a:ext cx="874116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9.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om insisted what he said _____ true and we insis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　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at he ______ and have a look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be; should go       B. should be; would g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was ; go                D. would g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. He ______ Shanghai, for I saw him talking with th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eadmaster a moment ago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must have gone to                 B. can’t have gone 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mustn’t have been to            D. can’t have been t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1.My English- Chinese dictionary has disappeared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o _______ have taken i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should   B. must   C. could   D. wou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2. ---- I don’t mind telling you what I know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--- You _______ . I’m not asking you for 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mustn’t   B. may not   C. can’t   D. needn’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63240" y="1429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586160" y="18954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967400" y="40291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500920" y="53244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78480" y="371520"/>
            <a:ext cx="889668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3.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he is too slow. She _____ pass the test, but she _____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oo litt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would; knew                B. will; kn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would; knows              D. will; kn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4.The fire spread through the hotel very quickly bu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veryone ______ get ou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. had to      B. would        C. could         D. was able 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5. ----- Do you dare to go home al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---- _________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Yes, I dare       B. No, I daren’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Yes, I do           D. No, I dare not 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6. On Sundays when I was a child, Father and I ______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et up early and go fish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could          B. would         C. might           D. shou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948840" y="3715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500920" y="24289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043720" y="37242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10640" y="50198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83160" y="152280"/>
            <a:ext cx="880488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7. ----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You’d better keep quiet in clas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--- Sometimes I  _____ . Yesterday, I was very quie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uring my English clas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would           B. do            C. did          D. ha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8. ---- They haven’t finished the work up to now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--- Well, they ______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should    B. should have   C. would    D. must ha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9. ----_______ he come to see you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--- Of course, please.And I’d rather he ______me 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rut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Will;inform                   B. Shall; told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Should; will say              D. Can; spok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0. Jenny _____ come with us tonight, but she isn’t 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ure ye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will            B. may          C. can               D. mu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491280" y="5238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38640" y="22003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586160" y="30384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967040" y="52484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5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6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6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7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2338560" y="2581200"/>
            <a:ext cx="4466880" cy="1695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Unit 13</a:t>
            </a:r>
            <a:endParaRPr b="1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 spd="slow">
    <p:pull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28800" y="228600"/>
            <a:ext cx="926208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ter is actually quite simple,but the way how th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ter molecule is formed gives water its unique propert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ter is a liquid at room temperature and ha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ively high frozen poi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nutrients in whatever falling into the ocean wil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ickly become available to other living creatur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density of pure water is 1 000 kg/m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meaning th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cubic metre of water weighs for one thousand kilogra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at capacity is the amount of energy that takes t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ise the temperature of a substance one degree centigrad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934320" y="0"/>
            <a:ext cx="304560" cy="76212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453800" y="1004760"/>
            <a:ext cx="81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h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543800" y="1066680"/>
            <a:ext cx="762120" cy="4572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666880" y="2362320"/>
            <a:ext cx="914400" cy="7596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15160" y="1895400"/>
            <a:ext cx="140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freez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343400" y="3276720"/>
            <a:ext cx="99072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757280" y="3191040"/>
            <a:ext cx="81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fal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952880" y="4572000"/>
            <a:ext cx="533520" cy="38088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157800" y="4867200"/>
            <a:ext cx="63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f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72200" y="4952880"/>
            <a:ext cx="457200" cy="38124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6400800" y="5714640"/>
            <a:ext cx="380880" cy="2286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781680" y="5715000"/>
            <a:ext cx="533520" cy="2286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545240" y="6248520"/>
            <a:ext cx="39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500"/>
                            </p:stCondLst>
                            <p:childTnLst>
                              <p:par>
                                <p:cTn id="28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500"/>
                            </p:stCondLst>
                            <p:childTnLst>
                              <p:par>
                                <p:cTn id="32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500"/>
                            </p:stCondLst>
                            <p:childTnLst>
                              <p:par>
                                <p:cTn id="32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206640" y="177840"/>
            <a:ext cx="870480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water in the ocean also keeps the temperature 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arth steadily by absorbing and releasing hea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reatures on the ocean floor manage to surv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out sunlight and getting energy from other sourc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mixing of fresh and salt water creates a uni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vironment is filled with life of all kin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re,animals can enjoy all the benefits of the oce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out having to face much of its dang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ce estuaries protect animals and plants an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vent erosion , protect them is very importa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905120" y="1143000"/>
            <a:ext cx="106668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566880" y="828720"/>
            <a:ext cx="114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stea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809880" y="2362320"/>
            <a:ext cx="83844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167080" y="2276640"/>
            <a:ext cx="63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g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286000" y="3276720"/>
            <a:ext cx="380880" cy="38088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919560" y="3191040"/>
            <a:ext cx="41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705720" y="3276720"/>
            <a:ext cx="838080" cy="38088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962520" y="4952880"/>
            <a:ext cx="76176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072560" y="4486320"/>
            <a:ext cx="103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ma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2971800" y="6172200"/>
            <a:ext cx="1066680" cy="7632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167440" y="6162840"/>
            <a:ext cx="174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protec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500"/>
                            </p:stCondLst>
                            <p:childTnLst>
                              <p:par>
                                <p:cTn id="37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380880" y="228600"/>
            <a:ext cx="1285920" cy="48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Unit 13</a:t>
            </a:r>
            <a:endParaRPr b="1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43" name=""/>
          <p:cNvSpPr/>
          <p:nvPr/>
        </p:nvSpPr>
        <p:spPr>
          <a:xfrm>
            <a:off x="1444680" y="905040"/>
            <a:ext cx="334584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翻转，倒过来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提出，想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记录，记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获益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范围从…，一直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也就是说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7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毁坏，出毛病，受挫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; 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华文宋体"/>
              </a:rPr>
              <a:t>分解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8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对…有效，有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9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利用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10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起作用，生效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11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对…反应敏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12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各种各样的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13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对…有贡献，有助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561480" y="828720"/>
            <a:ext cx="329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宋体"/>
              </a:rPr>
              <a:t>turn…upside down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057840" y="1285920"/>
            <a:ext cx="221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华文宋体"/>
              </a:rPr>
              <a:t>come up wi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209040" y="1666800"/>
            <a:ext cx="227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宋体"/>
              </a:rPr>
              <a:t>make notes 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36240" y="2133720"/>
            <a:ext cx="206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华文宋体"/>
              </a:rPr>
              <a:t>benefit fr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041720" y="2590920"/>
            <a:ext cx="471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宋体"/>
              </a:rPr>
              <a:t>range from… all the way to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668320" y="3048120"/>
            <a:ext cx="120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华文宋体"/>
              </a:rPr>
              <a:t>that i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552640" y="3352680"/>
            <a:ext cx="198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宋体"/>
              </a:rPr>
              <a:t>break dow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963600" y="3962520"/>
            <a:ext cx="316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华文宋体"/>
              </a:rPr>
              <a:t>become available 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989000" y="4334040"/>
            <a:ext cx="287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宋体"/>
              </a:rPr>
              <a:t>take advantage 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591360" y="4714920"/>
            <a:ext cx="217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华文宋体"/>
              </a:rPr>
              <a:t>do the work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588840" y="5172120"/>
            <a:ext cx="229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宋体"/>
              </a:rPr>
              <a:t>be sensitive 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360240" y="5553000"/>
            <a:ext cx="189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华文宋体"/>
              </a:rPr>
              <a:t>a variety 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885200" y="6010200"/>
            <a:ext cx="214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宋体"/>
              </a:rPr>
              <a:t>contribute 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685800" y="2743200"/>
            <a:ext cx="7153200" cy="289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Comic Sans MS"/>
              </a:rPr>
              <a:t>Multiple choices </a:t>
            </a:r>
            <a:endParaRPr b="0" lang="en-US" sz="7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 spd="slow">
    <p:pull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304920" y="304920"/>
            <a:ext cx="13809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Unit 13</a:t>
            </a:r>
            <a:endParaRPr b="1" lang="en-US" sz="3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59" name=""/>
          <p:cNvSpPr/>
          <p:nvPr/>
        </p:nvSpPr>
        <p:spPr>
          <a:xfrm>
            <a:off x="-504360" y="939960"/>
            <a:ext cx="1013256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33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I will certainly be surprised if he_______to tell them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what he know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. dare          B. dared           C. will dare          D. da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2. When I was at college I ________three foreign language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but I ________all except a few words of eac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. spoke;had forgotten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B. spoke; have forgott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. had spoken; had forgotten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D. had spoken; have forgott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3. ----We could have walked to the station. It was so ne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----Yes, a taxi _______at all necessa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. wasn’t                          B. hadn’t been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. wouldn’t be                   D. won’t 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701320" y="8287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05680" y="21240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05840" y="52484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320" y="304920"/>
            <a:ext cx="892224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4. We________each other the best of luck in th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examin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. hoped        B. wanted         C. expected       D. wish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5. Nobody noticed the thief slip into the house because 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lights happened to __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. put out     B. give in       C. be turned on    D. go o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6. ----How  did you find your visit to the museum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-----I thoroughly enjoyed it . It was _________th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 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I expec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. far more interesting           B. even much interest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. so more interesting            D. a lot much interes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434240" y="2286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643920" y="24526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63440" y="41292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225720" y="177840"/>
            <a:ext cx="872280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7. ----Alice, why didn’t you come yesterd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----I _______, but I had an unexpected visit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. had          B. would        C. was going to       D. d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8. ----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I usually go there by trai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----Why not _________by boat for a chang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. to try going                B. trying to go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. to try and go              D. try go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9. Charles Babbage is generally considered__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the first comput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. to have invented               B. inventing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. to invent                           D. having inven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10. When I got back home I saw a message pinned to 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door_____   “Sorry to miss you, I will call later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. read          B. reads        C. to read         D. rea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586520" y="6001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034440" y="18954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530120" y="31147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662840" y="52484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06200" y="142920"/>
            <a:ext cx="904428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11. I told Sally how to get here, but perhaps I _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for h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. had to write it out             B. must have written it o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. should have written it out      D. ought to write it o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12. --Your phone number again?  I ________quite catch 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----It’s 9568442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. didn’t        B. couldn’t        C. don’t       D. can’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13. Johnny, you________play with the knife, you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hurt yourself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. won’t ;can’t                     B. mustn’t ;may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. shouldn’t ; must              D. can’t ; shouldn’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377840" y="1429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945760" y="22240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34080" y="405288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1800" y="339840"/>
            <a:ext cx="899244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14.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She is _______newcomer to _______Chemistry but s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has  already made some important discover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. the; the           B. the; /        C. a; /          D. a ; 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15. -----Have you finished your report ye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----No, I’ll finish in _________ten minut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. another        B. other        C. more          D. l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16. I’ll look into the matter as soon as possible. Just ha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 little__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. wait         B. time          C. patience          D. r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17. After the new technique was introduced, the fact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produced________cars in 1988 as the year befo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. as twice many             B. as many tw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. twice as many             D. twice many 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91440" y="2952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872520" y="20480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67400" y="32670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424600" y="45626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685800" y="2895480"/>
            <a:ext cx="7315200" cy="123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新魏"/>
              </a:rPr>
              <a:t>语法专项练习</a:t>
            </a:r>
            <a:endParaRPr b="1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华文新魏"/>
              <a:ea typeface="华文新魏"/>
            </a:endParaRPr>
          </a:p>
        </p:txBody>
      </p:sp>
    </p:spTree>
  </p:cSld>
  <p:transition spd="slow">
    <p:pull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s</cp:lastModifiedBy>
  <dcterms:modified xsi:type="dcterms:W3CDTF">2005-06-18T07:40:05Z</dcterms:modified>
  <cp:revision>14</cp:revision>
  <dc:subject/>
  <dc:title>PowerPoint Presentation</dc:title>
</cp:coreProperties>
</file>